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19191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102440" cy="899316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8993160"/>
              <a:gd name="textAreaBottom" fmla="*/ 8992800 h 8993160"/>
            </a:gdLst>
            <a:ahLst/>
            <a:rect l="textAreaLeft" t="textAreaTop" r="textAreaRight" b="textAreaBottom"/>
            <a:pathLst>
              <a:path w="21600" h="27350">
                <a:moveTo>
                  <a:pt x="4" y="0"/>
                </a:moveTo>
                <a:arcTo wR="4" hR="4" stAng="16200000" swAng="-5400000"/>
                <a:lnTo>
                  <a:pt x="0" y="27346"/>
                </a:lnTo>
                <a:arcTo wR="4" hR="4" stAng="10800000" swAng="-5400000"/>
                <a:lnTo>
                  <a:pt x="21596" y="27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19191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11120" y="681120"/>
            <a:ext cx="4478400" cy="33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47520" y="4259160"/>
            <a:ext cx="5203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624640" y="8167680"/>
            <a:ext cx="709560" cy="252000"/>
            <a:chOff x="5624640" y="8167680"/>
            <a:chExt cx="709560" cy="252000"/>
          </a:xfrm>
        </p:grpSpPr>
        <p:sp>
          <p:nvSpPr>
            <p:cNvPr id="49" name=""/>
            <p:cNvSpPr/>
            <p:nvPr/>
          </p:nvSpPr>
          <p:spPr>
            <a:xfrm>
              <a:off x="5624640" y="8167680"/>
              <a:ext cx="709560" cy="147600"/>
            </a:xfrm>
            <a:prstGeom prst="roundRect">
              <a:avLst>
                <a:gd name="adj" fmla="val 10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91919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24640" y="8167680"/>
              <a:ext cx="70956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b2b2b2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919191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289240" y="8167680"/>
            <a:ext cx="3022560" cy="842040"/>
            <a:chOff x="2289240" y="8167680"/>
            <a:chExt cx="3022560" cy="842040"/>
          </a:xfrm>
        </p:grpSpPr>
        <p:sp>
          <p:nvSpPr>
            <p:cNvPr id="52" name=""/>
            <p:cNvSpPr/>
            <p:nvPr/>
          </p:nvSpPr>
          <p:spPr>
            <a:xfrm>
              <a:off x="2289240" y="8167680"/>
              <a:ext cx="3022560" cy="27144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91919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240" y="8167680"/>
              <a:ext cx="3022560" cy="8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b2b2b2"/>
                  </a:solidFill>
                  <a:latin typeface="Palatino"/>
                </a:rPr>
                <a:t>The Big Book of How to Do Perfect Testing</a:t>
              </a:r>
              <a:endParaRPr b="0" lang="en-US" sz="1200" spc="-1" strike="noStrike">
                <a:solidFill>
                  <a:srgbClr val="919191"/>
                </a:solidFill>
                <a:latin typeface="Times New Roman"/>
              </a:endParaRPr>
            </a:p>
            <a:p>
              <a:pPr algn="ctr"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b2b2b2"/>
                  </a:solidFill>
                  <a:latin typeface="Bitstream Vera Sans"/>
                  <a:ea typeface="Bitstream Vera Sans"/>
                </a:rPr>
                <a:t>©</a:t>
              </a:r>
              <a:r>
                <a:rPr b="0" lang="en-GB" sz="1200" spc="-1" strike="noStrike">
                  <a:solidFill>
                    <a:srgbClr val="b2b2b2"/>
                  </a:solidFill>
                  <a:latin typeface="Palatino"/>
                </a:rPr>
                <a:t> James Bullock 2006</a:t>
              </a:r>
              <a:endParaRPr b="0" lang="en-US" sz="1200" spc="-1" strike="noStrike">
                <a:solidFill>
                  <a:srgbClr val="919191"/>
                </a:solidFill>
                <a:latin typeface="Times New Roman"/>
              </a:endParaRPr>
            </a:p>
            <a:p>
              <a:pPr algn="ctr"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b2b2b2"/>
                  </a:solidFill>
                  <a:latin typeface="Palatino"/>
                </a:rPr>
                <a:t>contact: jbullock@rare-bird-ent.com</a:t>
              </a:r>
              <a:endParaRPr b="0" lang="en-US" sz="1200" spc="-1" strike="noStrike">
                <a:solidFill>
                  <a:srgbClr val="919191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019920" y="8391600"/>
            <a:ext cx="314280" cy="252000"/>
            <a:chOff x="6019920" y="8391600"/>
            <a:chExt cx="314280" cy="252000"/>
          </a:xfrm>
        </p:grpSpPr>
        <p:sp>
          <p:nvSpPr>
            <p:cNvPr id="55" name=""/>
            <p:cNvSpPr/>
            <p:nvPr/>
          </p:nvSpPr>
          <p:spPr>
            <a:xfrm>
              <a:off x="6019920" y="8391600"/>
              <a:ext cx="314280" cy="225360"/>
            </a:xfrm>
            <a:prstGeom prst="roundRect">
              <a:avLst>
                <a:gd name="adj" fmla="val 7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919191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19920" y="8391600"/>
              <a:ext cx="3142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fld id="{F7BCFF2B-BD97-4D79-9029-BFD703DDC74F}" type="slidenum">
                <a:rPr b="0" lang="en-GB" sz="1000" spc="-1" strike="noStrike">
                  <a:solidFill>
                    <a:srgbClr val="b2b2b2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919191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0800" y="8167680"/>
            <a:ext cx="673200" cy="42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12920" y="681120"/>
            <a:ext cx="4478400" cy="335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19191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947520" y="4259160"/>
            <a:ext cx="520524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Intro by 3</a:t>
            </a:r>
            <a:r>
              <a:rPr b="0" lang="en-GB" sz="16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 par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Jim Bullock is a consultant, helping people do “Conscious Development” to get what they intend from their investment in creating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He claims that most development work is acutally done unconsciously – in a  kind of trance. So, he works at the intersection of business model, development techniques and change agency to help people intentionally build the  systems they ne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One part of this is helping people do “perfect testing”, AKA “testing on purpose.” So, here's Ji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12920" y="681120"/>
            <a:ext cx="4478400" cy="335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19191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47520" y="4258800"/>
            <a:ext cx="5205240" cy="378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. . . and of course, anybody who knows me would expect that I'd just have to write it, with a setup like th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12920" y="681120"/>
            <a:ext cx="4478400" cy="335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19191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47520" y="4259160"/>
            <a:ext cx="5205240" cy="336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rection: Read / supplement from the long version, in-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12920" y="681120"/>
            <a:ext cx="4478400" cy="335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19191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47520" y="4259160"/>
            <a:ext cx="5205240" cy="37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andout / electronic version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11120" y="681120"/>
            <a:ext cx="4480200" cy="33591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47520" y="4259160"/>
            <a:ext cx="520524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. . and I suppose that we'll ask whether there are any ques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5920" y="262080"/>
            <a:ext cx="79995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8320" y="1658880"/>
            <a:ext cx="775656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8320" y="3605760"/>
            <a:ext cx="775656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5920" y="262080"/>
            <a:ext cx="79995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8320" y="1658880"/>
            <a:ext cx="378504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3080" y="1658880"/>
            <a:ext cx="378504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320" y="3605760"/>
            <a:ext cx="378504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3080" y="3605760"/>
            <a:ext cx="378504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5920" y="262080"/>
            <a:ext cx="79995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8320" y="1658880"/>
            <a:ext cx="249732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0920" y="1658880"/>
            <a:ext cx="249732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3520" y="1658880"/>
            <a:ext cx="249732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8320" y="3605760"/>
            <a:ext cx="249732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0920" y="3605760"/>
            <a:ext cx="249732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3520" y="3605760"/>
            <a:ext cx="249732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5920" y="262080"/>
            <a:ext cx="79995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8320" y="1658880"/>
            <a:ext cx="77565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5920" y="262080"/>
            <a:ext cx="79995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8320" y="1658880"/>
            <a:ext cx="77565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5920" y="262080"/>
            <a:ext cx="79995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8320" y="1658880"/>
            <a:ext cx="378504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3080" y="1658880"/>
            <a:ext cx="378504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5920" y="262080"/>
            <a:ext cx="79995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5920" y="262080"/>
            <a:ext cx="79995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5920" y="262080"/>
            <a:ext cx="79995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8320" y="1658880"/>
            <a:ext cx="378504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3080" y="1658880"/>
            <a:ext cx="378504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8320" y="3605760"/>
            <a:ext cx="378504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5920" y="262080"/>
            <a:ext cx="79995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8320" y="1658880"/>
            <a:ext cx="378504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3080" y="1658880"/>
            <a:ext cx="378504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3080" y="3605760"/>
            <a:ext cx="378504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5920" y="262080"/>
            <a:ext cx="79995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8320" y="1658880"/>
            <a:ext cx="378504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3080" y="1658880"/>
            <a:ext cx="378504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8320" y="3605760"/>
            <a:ext cx="7756560" cy="17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01"/>
            </a:gs>
            <a:gs pos="100000">
              <a:srgbClr val="00a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5920" y="262080"/>
            <a:ext cx="79995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8320" y="1658880"/>
            <a:ext cx="77565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23360" indent="-288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Clr>
                <a:srgbClr val="ffff00"/>
              </a:buClr>
              <a:buFont typeface="Marlett" charset="2"/>
              <a:buChar char="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4096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Clr>
                <a:srgbClr val="ffff00"/>
              </a:buClr>
              <a:buFont typeface="Marlett" charset="2"/>
              <a:buChar char="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62880" indent="-108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8228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8228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82280">
              <a:lnSpc>
                <a:spcPct val="104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5240" y="1447920"/>
            <a:ext cx="8001000" cy="144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19191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560" y="1371600"/>
            <a:ext cx="7975440" cy="1440"/>
          </a:xfrm>
          <a:prstGeom prst="line">
            <a:avLst/>
          </a:prstGeom>
          <a:ln w="507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19191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31960" y="5927760"/>
            <a:ext cx="39942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Palatino"/>
              </a:rPr>
              <a:t>The Big Book of How to </a:t>
            </a:r>
            <a:r>
              <a:rPr b="0" lang="en-GB" sz="1200" spc="-1" strike="noStrike">
                <a:solidFill>
                  <a:srgbClr val="c0c0c0"/>
                </a:solidFill>
                <a:latin typeface="Palatino"/>
              </a:rPr>
              <a:t>Do</a:t>
            </a:r>
            <a:r>
              <a:rPr b="0" lang="en-GB" sz="1200" spc="-1" strike="noStrike">
                <a:solidFill>
                  <a:srgbClr val="b2b2b2"/>
                </a:solidFill>
                <a:latin typeface="Palatino"/>
              </a:rPr>
              <a:t> Perfect Testing</a:t>
            </a:r>
            <a:endParaRPr b="0" lang="en-US" sz="1200" spc="-1" strike="noStrike">
              <a:solidFill>
                <a:srgbClr val="919191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Bitstream Vera Sans"/>
                <a:ea typeface="Bitstream Vera Sans"/>
              </a:rPr>
              <a:t>©</a:t>
            </a:r>
            <a:r>
              <a:rPr b="0" lang="en-GB" sz="1200" spc="-1" strike="noStrike">
                <a:solidFill>
                  <a:srgbClr val="b2b2b2"/>
                </a:solidFill>
                <a:latin typeface="Palatino"/>
              </a:rPr>
              <a:t> James Bullock 2006</a:t>
            </a:r>
            <a:endParaRPr b="0" lang="en-US" sz="1200" spc="-1" strike="noStrike">
              <a:solidFill>
                <a:srgbClr val="919191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Palatino"/>
              </a:rPr>
              <a:t>jbullock@rare-bird-ent.com</a:t>
            </a:r>
            <a:endParaRPr b="0" lang="en-US" sz="1200" spc="-1" strike="noStrike">
              <a:solidFill>
                <a:srgbClr val="919191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52440" y="594684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357200" y="5946840"/>
            <a:ext cx="8208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0c0c0"/>
                </a:solidFill>
                <a:latin typeface="Palatino"/>
              </a:rPr>
              <a:t>Seattle</a:t>
            </a:r>
            <a:endParaRPr b="0" lang="en-US" sz="1200" spc="-1" strike="noStrike">
              <a:solidFill>
                <a:srgbClr val="919191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0c0c0"/>
                </a:solidFill>
                <a:latin typeface="Palatino"/>
              </a:rPr>
              <a:t>QA-SIG</a:t>
            </a:r>
            <a:endParaRPr b="0" lang="en-US" sz="1200" spc="-1" strike="noStrike">
              <a:solidFill>
                <a:srgbClr val="919191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521840" y="5950080"/>
            <a:ext cx="83736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0c0c0"/>
                </a:solidFill>
                <a:latin typeface="Palatino"/>
              </a:rPr>
              <a:t>8 Nov, 2006</a:t>
            </a:r>
            <a:endParaRPr b="0" lang="en-US" sz="1200" spc="-1" strike="noStrike">
              <a:solidFill>
                <a:srgbClr val="91919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01"/>
            </a:gs>
            <a:gs pos="100000">
              <a:srgbClr val="00a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7880" y="15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Palatino"/>
              </a:rPr>
              <a:t>The Big Book of How to Do Perfect Tes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3840" y="2858760"/>
            <a:ext cx="6400800" cy="27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2000"/>
              </a:lnSpc>
              <a:spcBef>
                <a:spcPts val="286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Palatino"/>
                <a:ea typeface="msgothic"/>
              </a:rPr>
              <a:t>A “Lightning Talk” Including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2000"/>
              </a:lnSpc>
              <a:spcBef>
                <a:spcPts val="286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Palatino"/>
                <a:ea typeface="msgothic"/>
              </a:rPr>
              <a:t>The Big Bo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2000"/>
              </a:lnSpc>
              <a:spcBef>
                <a:spcPts val="286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Palatino"/>
                <a:ea typeface="msgothic"/>
              </a:rPr>
              <a:t>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2000"/>
              </a:lnSpc>
              <a:spcBef>
                <a:spcPts val="286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Palatino"/>
                <a:ea typeface="msgothic"/>
              </a:rPr>
              <a:t>How it Came to B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2000"/>
              </a:lnSpc>
              <a:spcBef>
                <a:spcPts val="286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Palatino"/>
                <a:ea typeface="msgothic"/>
              </a:rPr>
              <a:t>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2000"/>
              </a:lnSpc>
              <a:spcBef>
                <a:spcPts val="286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Palatino"/>
                <a:ea typeface="msgothic"/>
              </a:rPr>
              <a:t>Five Minutes or L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2000"/>
              </a:lnSpc>
              <a:spcBef>
                <a:spcPts val="286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Palatino"/>
                <a:ea typeface="msgothic"/>
              </a:rPr>
              <a:t>(Reall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75400" y="6165720"/>
            <a:ext cx="51624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0c0c0"/>
                </a:solidFill>
                <a:latin typeface="Palatino"/>
              </a:rPr>
              <a:t>1 of 5</a:t>
            </a:r>
            <a:endParaRPr b="0" lang="en-US" sz="1200" spc="-1" strike="noStrike">
              <a:solidFill>
                <a:srgbClr val="91919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01"/>
            </a:gs>
            <a:gs pos="100000">
              <a:srgbClr val="00a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5920" y="229320"/>
            <a:ext cx="800100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Palatino"/>
              </a:rPr>
              <a:t>A story, because 5 minutes is a long time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2280" y="1607760"/>
            <a:ext cx="8037360" cy="467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On SHAPE forum, we were reviewing “testing parables” written by Jerry (Weinberg) and Elisabeth (Hendrickson) each “ . . . debunking a myth about testing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Jim Batterson spoke up:  “ . . . each vignette is an illustration of some principle . . . a violation of Chapter three subsection two of </a:t>
            </a:r>
            <a:r>
              <a:rPr b="0" i="1" lang="en-GB" sz="2400" spc="-1" strike="noStrike">
                <a:solidFill>
                  <a:srgbClr val="ffffff"/>
                </a:solidFill>
                <a:latin typeface="Palatino"/>
              </a:rPr>
              <a:t>The Big Book of How to Do Perfect Testing.</a:t>
            </a: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 The frustration for the reader . . . is that such a book does not exis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So, I wrote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75400" y="6165720"/>
            <a:ext cx="51624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0c0c0"/>
                </a:solidFill>
                <a:latin typeface="Palatino"/>
              </a:rPr>
              <a:t>2 of 5</a:t>
            </a:r>
            <a:endParaRPr b="0" lang="en-US" sz="1200" spc="-1" strike="noStrike">
              <a:solidFill>
                <a:srgbClr val="91919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01"/>
            </a:gs>
            <a:gs pos="100000">
              <a:srgbClr val="00a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0920" y="63000"/>
            <a:ext cx="8412120" cy="158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Palatino"/>
              </a:rPr>
              <a:t>The Big Book of How to Do Perfect Testing</a:t>
            </a:r>
            <a:br>
              <a:rPr sz="3600"/>
            </a:br>
            <a:r>
              <a:rPr b="0" lang="en-GB" sz="2400" spc="-1" strike="noStrike">
                <a:solidFill>
                  <a:srgbClr val="ffff00"/>
                </a:solidFill>
                <a:latin typeface="Palatino"/>
              </a:rPr>
              <a:t>by James Bulloc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3960" y="1590840"/>
            <a:ext cx="8064720" cy="424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2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 - Testing is an informational function . .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- Testing produces information reliably grounded in the observed behavior of a system . .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- Information is valuable if you act on it . . . So, get what you'll act on, and act on what you get 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- The techniques of testing are endless – literally. So, pick the one that best gets you the information you need . .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 - Act always according to these four principles and you will do perfect testing, every time. The rest is detai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75400" y="6165720"/>
            <a:ext cx="51624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0c0c0"/>
                </a:solidFill>
                <a:latin typeface="Palatino"/>
              </a:rPr>
              <a:t>3 of 5</a:t>
            </a:r>
            <a:endParaRPr b="0" lang="en-US" sz="1200" spc="-1" strike="noStrike">
              <a:solidFill>
                <a:srgbClr val="91919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01"/>
            </a:gs>
            <a:gs pos="100000">
              <a:srgbClr val="00a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5920" y="261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Palatino"/>
              </a:rPr>
              <a:t>The Big Book – The Director's Cut</a:t>
            </a:r>
            <a:br>
              <a:rPr sz="3600"/>
            </a:br>
            <a:r>
              <a:rPr b="0" lang="en-GB" sz="2400" spc="-1" strike="noStrike">
                <a:solidFill>
                  <a:srgbClr val="ffff00"/>
                </a:solidFill>
                <a:latin typeface="Palatino"/>
              </a:rPr>
              <a:t>with Commentary Trac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120" y="1564920"/>
            <a:ext cx="7952040" cy="55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2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Handout: </a:t>
            </a:r>
            <a:r>
              <a:rPr b="0" i="1" lang="en-GB" sz="2000" spc="-1" strike="noStrike">
                <a:solidFill>
                  <a:srgbClr val="ffffff"/>
                </a:solidFill>
                <a:latin typeface="Palatino"/>
              </a:rPr>
              <a:t>The Big Book of How to do Perfect Testing - The Director's C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28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The Big Claim: This definition accounts for, accommodates, and even encourages the whole testing can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Palatino"/>
              </a:rPr>
              <a:t>Any “school” of testing you can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Palatino"/>
              </a:rPr>
              <a:t>Techniques &amp; tools of testing, and inventing new 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Palatino"/>
              </a:rPr>
              <a:t>Life-cycles and life-cycle integration for te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Palatino"/>
              </a:rPr>
              <a:t>Kinds of information you can get from te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1437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Palatino"/>
              </a:rPr>
              <a:t>And why you'd test vs. find this out some other way (Hint: Any time we trust observation more than other ways to find stuff out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Very useful for resolving issues with test management, support of testing, and the responsibilities of testing &amp; tes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75400" y="6165720"/>
            <a:ext cx="51624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0c0c0"/>
                </a:solidFill>
                <a:latin typeface="Palatino"/>
              </a:rPr>
              <a:t>4 of 5</a:t>
            </a:r>
            <a:endParaRPr b="0" lang="en-US" sz="1200" spc="-1" strike="noStrike">
              <a:solidFill>
                <a:srgbClr val="91919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01"/>
            </a:gs>
            <a:gs pos="100000">
              <a:srgbClr val="00a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5920" y="261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Palatino"/>
              </a:rPr>
              <a:t>Coda: In Case We Have Time Left Ov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8680" y="1654200"/>
            <a:ext cx="7969320" cy="456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Jerry: “I guess nobody ever asked for this book before. Thanks, Jim, for writing it. No thanks, Jim, for putting our book out of busines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Bullock: “You are welcome, and yours will sell. Mine won't. Too shor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To be fair, Jim Batterson also said: “ . . . I hope such a book is never created. It is not the nature of testing that there is one right way of testing everything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2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SHAPE =</a:t>
            </a: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 S</a:t>
            </a: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oftware as a </a:t>
            </a: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uman</a:t>
            </a: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 A</a:t>
            </a: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ctivity</a:t>
            </a: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 P</a:t>
            </a: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racticed </a:t>
            </a: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ffectively, a subscription-based forum hosted by Jerry Weinber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75400" y="6165720"/>
            <a:ext cx="51624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0c0c0"/>
                </a:solidFill>
                <a:latin typeface="Palatino"/>
              </a:rPr>
              <a:t>5 of 5</a:t>
            </a:r>
            <a:endParaRPr b="0" lang="en-US" sz="1200" spc="-1" strike="noStrike">
              <a:solidFill>
                <a:srgbClr val="91919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 Bullock</dc:creator>
  <dc:description/>
  <dc:language>en-US</dc:language>
  <cp:lastModifiedBy>James Bullock</cp:lastModifiedBy>
  <cp:revision>0</cp:revision>
  <dc:subject/>
  <dc:title/>
</cp:coreProperties>
</file>